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1C76-E9F9-45DE-939C-DF1235D40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8D98-F445-4480-A28A-C5A6E61B7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958F-A4BC-44D1-A818-C3F40A630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75D4-2BC1-403E-9B8B-DA74B62A3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BF34-D443-4A03-9A70-3368D2F14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9E51-0F34-4E70-B706-E33963D37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2C90-C9A5-4B02-96C5-705030E83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A64A-F542-4E3B-97A3-7E79FB24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6A15-E836-4C50-8B11-EEC612A9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362E-70DC-406C-8BA3-6FE0F614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2AE1-CD36-47BD-8B22-4FA90394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8D6-AA73-4AEB-811B-14E8DC32F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4628-1678-4092-BFFF-D7CAA10752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520" y="304920"/>
            <a:ext cx="40388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n Microsoft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Start – Bottom Task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PowerPoint in the short cut menu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Programs &gt; Microsoft Office &gt;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in the top box to add title and in lower box to add sub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0" y="304920"/>
            <a:ext cx="4038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b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cate Toolbars under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toolbar becomes available when you click on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and Formatting should always be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riment with others as you become comfor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tting Up a Slideshow</a:t>
            </a:r>
            <a:br>
              <a:rPr sz="40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will need to practice and play with these features to your individual tas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44197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ew Show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s the slide show. There is also an icon in the bottom left cor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t Up Sho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the show looping over and 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each slide on a mouse click (manually) or automatically (using timing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800600" y="2525760"/>
            <a:ext cx="4038480" cy="3722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971800" y="4114800"/>
            <a:ext cx="1905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67080" y="4114800"/>
            <a:ext cx="259092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257800" y="12952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all slides or a range of sli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010280" y="2057400"/>
            <a:ext cx="76320" cy="99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a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5257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ustom An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hen you want words or pictures to enter sepa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Add Effect and choose an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791320" y="1371600"/>
            <a:ext cx="2936880" cy="46483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350496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a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280" y="1523880"/>
            <a:ext cx="5943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Transi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Occurs as one slide moves to the n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s appear in the task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sp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e the slide on a mouse click, or set a time for it to automatically occ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te: you must check “Using timings” under Set Up Show for the auto to wo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 to all sli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on’t click if you just want it applied to the current slide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324480" y="1371600"/>
            <a:ext cx="2498760" cy="51055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952880" y="3200400"/>
            <a:ext cx="175284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29200" y="41911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86200" y="320040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943600" y="5790960"/>
            <a:ext cx="457200" cy="759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ing is under File just like all Microsoft produ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int each slide individually 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can print as a handout with multiple slides on a page like this Quick Start gu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304920"/>
            <a:ext cx="7924680" cy="61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915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8077320" cy="64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71280"/>
            <a:ext cx="8839440" cy="1986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2743200"/>
            <a:ext cx="640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formatting in PowerPoint is just like the formatting in 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724280" y="3809880"/>
            <a:ext cx="40388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 you are ready for a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l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ick on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ew Slid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and when you want to choose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background desig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lick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7238880" y="1447920"/>
            <a:ext cx="0" cy="2286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057400" y="1371600"/>
            <a:ext cx="0" cy="1295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Basic R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 topics or talking point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rk background color or graphic / light letters 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ght background color or graphic / dark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sound effects carefully or not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ss is more or Simple is 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background through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re than 3 fo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t graphics o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ave of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248520" y="76320"/>
            <a:ext cx="2590560" cy="6629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28600" y="457200"/>
            <a:ext cx="5715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ch time you choose a new slide you will need to pick a layout from the many available or choose a blank and create your ow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6440" y="1916280"/>
            <a:ext cx="5883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en charts, movies, tables, and graphics can be easil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ded to any slide.  Experiment with each lay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080" y="3821040"/>
            <a:ext cx="5425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nk sl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add any object (text, graphic, table, chart, movie, or sound) to a slide click on Insert at the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the object you want to insert and click on the slide where you wish to place the ob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8600" y="4572000"/>
            <a:ext cx="5410080" cy="201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4343400" y="152280"/>
            <a:ext cx="4678200" cy="54104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28600" y="1066680"/>
            <a:ext cx="40384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 Ways to View Sli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 S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tes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Four View Op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it to build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S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s overview of entir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move slides around and reorder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lide 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ys your Power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tes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you to add notes for talking that do not appear on the slides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80880" y="914400"/>
            <a:ext cx="8382240" cy="5769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tting up the Slide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276720"/>
            <a:ext cx="22860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have many options under Slide Show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114800" y="1676520"/>
            <a:ext cx="1143000" cy="1676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3T15:14:36Z</dcterms:created>
  <dc:creator>Helen Gooch</dc:creator>
  <dc:description/>
  <dc:language>en-US</dc:language>
  <cp:lastModifiedBy>Amy McWhirter</cp:lastModifiedBy>
  <dcterms:modified xsi:type="dcterms:W3CDTF">2007-04-23T14:34:44Z</dcterms:modified>
  <cp:revision>9</cp:revision>
  <dc:subject/>
  <dc:title>PowerPoint Quick Start </dc:title>
</cp:coreProperties>
</file>